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7862-EFAC-4131-A081-378845897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0564-8A17-48FD-BB16-8BA33EE08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5CAE-0493-4B57-BEDA-6ED861228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2943-5661-427D-A708-191DD40E4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87BE8-B3FE-47B6-8B9E-D204115BB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A87F7-6E97-44E6-A4DE-64F8D11AC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AEC84-9BB5-4DB2-9C41-D46966FE5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01391-42AC-4138-A05F-185789B4F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1512B-34E0-42A4-9737-06E83908B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70204-C0F7-473F-AE7A-6195B0B9E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51A64-D69F-472B-9B38-ECC673E8C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8D1F-3A7B-4533-A09A-7AB543571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052BF-E666-4AA8-9E9A-232E6490A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C5739-8D98-4102-8633-8D9992F74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8789F-585B-4BD9-974F-E0E37E6DB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F05C6-AA0F-411E-976D-7534A6B25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94DEE-B9DC-42AF-95D8-93B6618E6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FAC3-7714-47FF-A4AC-AFC13FE20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2044-D5B4-4702-A4CB-6BB76895E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6018-2565-4904-999E-055F5112D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F451-4359-426D-BE1E-EBD1053A3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0CC6-ADC6-4781-B238-5E6BA1118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0293-F29E-42C6-B591-ABFEF3C5C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B272-2C1A-4CE1-89A1-3F09F9240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dfdfd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7e7e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f6f6f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7d7d7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7e7e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7d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0d0d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efef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f6f6f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66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9F386-9C15-462D-88E2-3703739CC5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7e7e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f6f6f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7d7d7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7e7e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7d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0d0d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efef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f6f6f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4E881-5A91-4835-A070-A7BA6D8B7A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66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000000"/>
                </a:solidFill>
                <a:latin typeface="Arial"/>
              </a:rPr>
              <a:t>Configuración de interfase inalámbric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nfiguración básica, WDS, Virtual AP, N-Stre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Interfase Inalámbrica Route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82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interface-type=Atheros AR521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hip-info="mac:0x5/0x6, phy:0x41, a5:0x17, a2:0x23, eeprom:0x3004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tx-power-control=yes ack-timeout-control=yes alignment-mode=yes virtual-aps=yes noise-floor-control=yes scan-support=yes burst-support=yes nstreme-support=yes default-periodic-calibration=enabled</a:t>
            </a:r>
            <a:br>
              <a:rPr sz="1800"/>
            </a:b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upported-bands=2ghz-b,5ghz,5ghz-turbo,2ghz-g,2ghz-g-turbo </a:t>
            </a:r>
            <a:br>
              <a:rPr sz="1800"/>
            </a:b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2ghz-b-channels=2412,2417,2422,2427,2432,2437,2442,2447,2452,2457,2462,2467,2472</a:t>
            </a:r>
            <a:br>
              <a:rPr sz="1800"/>
            </a:b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5ghz-channels=5180,5200,5220,5240,5260,5280,5300,5320,5745,5765,5785,5805</a:t>
            </a:r>
            <a:br>
              <a:rPr sz="1800"/>
            </a:b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5ghz-turbo-channels=5210,5250,5290,5760,5800 </a:t>
            </a:r>
            <a:br>
              <a:rPr sz="1800"/>
            </a:b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2ghz-g-channels=2412,2417,2422,2427,2432,2437,2442,2447,2452,2457,2462,2467,2472 </a:t>
            </a:r>
            <a:br>
              <a:rPr sz="1800"/>
            </a:b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2ghz-g-turbo-channels=2412,2417,2422,2427,2432,2437,2442,2447,2452,2457,2462,2467,247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Interfase Inalámbrica Route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4920" y="1628280"/>
            <a:ext cx="4537080" cy="49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S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status: connected-to-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band: 2.4ghz-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frequency: 245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tx-rate: 54Mb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rx-rate: 54Mb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ssid: MikroTi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bssid: 00:0B:6B:31:63:5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radio-name: 000B6B31635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signal-strength: -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tx-signal-strength: -5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tx-ccq: 9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rx-ccq: 9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urrent-ack-timeout: 5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urrent-distance: 5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wds-link: 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nstreme: 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framing-mode: n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routeros-version: 2.8.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last-ip: 1.1.1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292720" y="1484280"/>
            <a:ext cx="3672000" cy="51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lv-LV" sz="3600" spc="-1" strike="noStrike">
                <a:solidFill>
                  <a:srgbClr val="000000"/>
                </a:solidFill>
                <a:latin typeface="Arial"/>
                <a:ea typeface="Arial"/>
              </a:rPr>
              <a:t>A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atus: running-a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nd: 2.4ghz-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requency: 245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verall-tx-ccq: 9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gistered-clients: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urrent-ack-timeout: 5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urrent-distance: 5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streme: 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Interfase Inalámbrica Route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1584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abla de registro: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# INT...   RADIO-NAME     MAC-ADDRESS     AP  SIGNAL... TX-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0 wlan1  000B6B31635D   00:0B:6B:31:63:5D yes -41            54Mbp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1584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tadisticas desde la tabla de registr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nterface=wlan1 radio-name="000B6B31635D" mac-address=00:0B:6B:31:63:5D ap=yes wds=no rx-rate=54Mbps tx-rate=54Mbps packets=15009,18686 bytes=20751659,26806208 frames=15009,18740 frame-bytes=20751659,26807013 hw-frames=15009,18750 hw-frame-bytes=21111875,27257053 uptime=02:14:06 last-activity=00:00:00.040 signal-strength=-44 tx-signal-strength=-52 tx-ccq=27 rx-ccq=66 ack-timeout=56 distance=56 nstreme=no framing-mode=none routeros-version="2.8.16" last-ip=1.1.1.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Interfase Inalámbrica Route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1584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Herramienta de scaneo de red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DDRESS             SSID          BAND     FREQ BSS PRI SIGNAL-S... ROU NST FAS RAD...   ROU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00:02:6F:32:43:AA dzi             2.4ghz-b  2412  yes   no   -54                no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00:0B:6B:33:0D:4F PC_PO...  2.4ghz-b  2412  yes   no   -68                yes   no    no    000...     2.8.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00:90:4B:19:A5:E4 spa            2.4ghz-g  2437  yes   no   -51                no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00:0B:6B:31:02:4B wtest         2.4ghz-g  2442  yes   no   -58                yes   no    no    AP_172  2.8.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Seguridad de Interfase Inalámbrica Route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Interface wireless secu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0 name="wlan1" security=required algo-0=40-bit-wep key-0=“0123456789" algo-1=none key-1="" algo-2=none key-2="" algo-3=none key-3="" transmit-key=key-0 sta-private-algo=none sta-private-key="" radius-mac-authentication=n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584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oporta 40bit-WEP(64bit), 104bit-WEP(128), AES-C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Interfase Inalámbrica RouterOS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roblem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1440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o hay conexión con el AP: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heca si tu ves el AP cuando haces scan, estando seguro que la frecuencia del AP este incluida en el scan-list, que estes usando la banda correcta y checa la opción de default-forward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1440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Bajo rendimiento o desconexión en el enlace inalámbric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heca la senal (recomendado minimo -75), interferencia – usa canal diferente, trata con los defaults de la tarjeta inalámbrica (tx-power, ack-timeout, rate-set, etc), checa la opción de power-calib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Sistema de Distribución Inalámbrica (WD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1584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WDS (Wireless Distribution System) permite a los paquetes pasar desde un AP a otro, tal como si ambos fueran puertos de un switch Ethernet 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bri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1584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Ps deben usar el mismo standard (802.11a, 802.11b o 802.11g)  y trabajar sobre las mismas frecuencias para poderse conectar entre ell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1584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WDS es usado para hacer redes 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enteadas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” a través del medio inalámbrico y extender el rango de la red inalámbr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Wireless Distribution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95280" y="4221000"/>
            <a:ext cx="719280" cy="719280"/>
          </a:xfrm>
          <a:prstGeom prst="cube">
            <a:avLst>
              <a:gd name="adj" fmla="val 25000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627280" y="2708280"/>
            <a:ext cx="719280" cy="719280"/>
          </a:xfrm>
          <a:prstGeom prst="cube">
            <a:avLst>
              <a:gd name="adj" fmla="val 25000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627280" y="5661000"/>
            <a:ext cx="719280" cy="719280"/>
          </a:xfrm>
          <a:prstGeom prst="cube">
            <a:avLst>
              <a:gd name="adj" fmla="val 25000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627280" y="4076640"/>
            <a:ext cx="719280" cy="719280"/>
          </a:xfrm>
          <a:prstGeom prst="cube">
            <a:avLst>
              <a:gd name="adj" fmla="val 25000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6" name=""/>
          <p:cNvCxnSpPr>
            <a:stCxn id="252" idx="5"/>
            <a:endCxn id="253" idx="2"/>
          </p:cNvCxnSpPr>
          <p:nvPr/>
        </p:nvCxnSpPr>
        <p:spPr>
          <a:xfrm flipV="1">
            <a:off x="1114560" y="3157200"/>
            <a:ext cx="1513440" cy="133416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  <a:headEnd len="med" type="triangle" w="med"/>
            <a:tailEnd len="med" type="triangle" w="med"/>
          </a:ln>
        </p:spPr>
      </p:cxnSp>
      <p:cxnSp>
        <p:nvCxnSpPr>
          <p:cNvPr id="257" name=""/>
          <p:cNvCxnSpPr>
            <a:stCxn id="252" idx="5"/>
            <a:endCxn id="255" idx="2"/>
          </p:cNvCxnSpPr>
          <p:nvPr/>
        </p:nvCxnSpPr>
        <p:spPr>
          <a:xfrm>
            <a:off x="1114560" y="4490640"/>
            <a:ext cx="1513440" cy="3564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  <a:headEnd len="med" type="triangle" w="med"/>
            <a:tailEnd len="med" type="triangle" w="med"/>
          </a:ln>
        </p:spPr>
      </p:cxnSp>
      <p:cxnSp>
        <p:nvCxnSpPr>
          <p:cNvPr id="258" name=""/>
          <p:cNvCxnSpPr>
            <a:stCxn id="252" idx="5"/>
            <a:endCxn id="254" idx="2"/>
          </p:cNvCxnSpPr>
          <p:nvPr/>
        </p:nvCxnSpPr>
        <p:spPr>
          <a:xfrm>
            <a:off x="1114560" y="4491000"/>
            <a:ext cx="1513440" cy="162000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  <a:headEnd len="med" type="triangle" w="med"/>
            <a:tailEnd len="med" type="triangle" w="med"/>
          </a:ln>
        </p:spPr>
      </p:cxnSp>
      <p:sp>
        <p:nvSpPr>
          <p:cNvPr id="259" name=""/>
          <p:cNvSpPr/>
          <p:nvPr/>
        </p:nvSpPr>
        <p:spPr>
          <a:xfrm>
            <a:off x="6659640" y="4149720"/>
            <a:ext cx="718920" cy="719280"/>
          </a:xfrm>
          <a:prstGeom prst="cube">
            <a:avLst>
              <a:gd name="adj" fmla="val 25000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883640" y="5661000"/>
            <a:ext cx="718920" cy="719280"/>
          </a:xfrm>
          <a:prstGeom prst="cube">
            <a:avLst>
              <a:gd name="adj" fmla="val 25000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362560" y="2708280"/>
            <a:ext cx="719280" cy="719280"/>
          </a:xfrm>
          <a:prstGeom prst="cube">
            <a:avLst>
              <a:gd name="adj" fmla="val 25000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2" name=""/>
          <p:cNvCxnSpPr>
            <a:stCxn id="259" idx="4"/>
            <a:endCxn id="260" idx="1"/>
          </p:cNvCxnSpPr>
          <p:nvPr/>
        </p:nvCxnSpPr>
        <p:spPr>
          <a:xfrm>
            <a:off x="7199280" y="4599000"/>
            <a:ext cx="954720" cy="124200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  <a:headEnd len="med" type="triangle" w="med"/>
            <a:tailEnd len="med" type="triangle" w="med"/>
          </a:ln>
        </p:spPr>
      </p:cxnSp>
      <p:cxnSp>
        <p:nvCxnSpPr>
          <p:cNvPr id="263" name=""/>
          <p:cNvCxnSpPr>
            <a:stCxn id="261" idx="4"/>
            <a:endCxn id="259" idx="1"/>
          </p:cNvCxnSpPr>
          <p:nvPr/>
        </p:nvCxnSpPr>
        <p:spPr>
          <a:xfrm>
            <a:off x="5901840" y="3157560"/>
            <a:ext cx="1027800" cy="117216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  <a:headEnd len="med" type="triangle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24000" y="1773360"/>
            <a:ext cx="32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STREL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364000" y="1773360"/>
            <a:ext cx="324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DENA o B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Wireless Distribution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84360" y="5229360"/>
            <a:ext cx="718920" cy="718920"/>
          </a:xfrm>
          <a:prstGeom prst="cube">
            <a:avLst>
              <a:gd name="adj" fmla="val 25000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4360" y="2781360"/>
            <a:ext cx="718920" cy="718920"/>
          </a:xfrm>
          <a:prstGeom prst="cube">
            <a:avLst>
              <a:gd name="adj" fmla="val 25000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844720" y="5229360"/>
            <a:ext cx="719280" cy="718920"/>
          </a:xfrm>
          <a:prstGeom prst="cube">
            <a:avLst>
              <a:gd name="adj" fmla="val 25000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844720" y="2781360"/>
            <a:ext cx="719280" cy="718920"/>
          </a:xfrm>
          <a:prstGeom prst="cube">
            <a:avLst>
              <a:gd name="adj" fmla="val 25000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39640" y="1700280"/>
            <a:ext cx="32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IL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48360" y="1773360"/>
            <a:ext cx="32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3" name=""/>
          <p:cNvCxnSpPr>
            <a:stCxn id="268" idx="3"/>
            <a:endCxn id="267" idx="1"/>
          </p:cNvCxnSpPr>
          <p:nvPr/>
        </p:nvCxnSpPr>
        <p:spPr>
          <a:xfrm>
            <a:off x="953640" y="3499920"/>
            <a:ext cx="1080" cy="190908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  <a:headEnd len="med" type="triangle" w="med"/>
            <a:tailEnd len="med" type="triangle" w="med"/>
          </a:ln>
        </p:spPr>
      </p:cxnSp>
      <p:cxnSp>
        <p:nvCxnSpPr>
          <p:cNvPr id="274" name=""/>
          <p:cNvCxnSpPr>
            <a:stCxn id="267" idx="4"/>
            <a:endCxn id="269" idx="2"/>
          </p:cNvCxnSpPr>
          <p:nvPr/>
        </p:nvCxnSpPr>
        <p:spPr>
          <a:xfrm>
            <a:off x="1224000" y="5678280"/>
            <a:ext cx="1621440" cy="108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  <a:headEnd len="med" type="triangle" w="med"/>
            <a:tailEnd len="med" type="triangle" w="med"/>
          </a:ln>
        </p:spPr>
      </p:cxnSp>
      <p:cxnSp>
        <p:nvCxnSpPr>
          <p:cNvPr id="275" name=""/>
          <p:cNvCxnSpPr>
            <a:stCxn id="269" idx="1"/>
            <a:endCxn id="270" idx="3"/>
          </p:cNvCxnSpPr>
          <p:nvPr/>
        </p:nvCxnSpPr>
        <p:spPr>
          <a:xfrm flipV="1">
            <a:off x="3114360" y="3499560"/>
            <a:ext cx="1080" cy="190908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  <a:headEnd len="med" type="triangle" w="med"/>
            <a:tailEnd len="med" type="triangle" w="med"/>
          </a:ln>
        </p:spPr>
      </p:cxnSp>
      <p:cxnSp>
        <p:nvCxnSpPr>
          <p:cNvPr id="276" name=""/>
          <p:cNvCxnSpPr>
            <a:stCxn id="268" idx="4"/>
            <a:endCxn id="270" idx="2"/>
          </p:cNvCxnSpPr>
          <p:nvPr/>
        </p:nvCxnSpPr>
        <p:spPr>
          <a:xfrm>
            <a:off x="1224000" y="3230280"/>
            <a:ext cx="1621440" cy="108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  <a:headEnd len="med" type="triangle" w="med"/>
            <a:tailEnd len="med" type="triangle" w="med"/>
          </a:ln>
        </p:spPr>
      </p:cxnSp>
      <p:sp>
        <p:nvSpPr>
          <p:cNvPr id="277" name=""/>
          <p:cNvSpPr/>
          <p:nvPr/>
        </p:nvSpPr>
        <p:spPr>
          <a:xfrm>
            <a:off x="5364000" y="5229360"/>
            <a:ext cx="719280" cy="718920"/>
          </a:xfrm>
          <a:prstGeom prst="cube">
            <a:avLst>
              <a:gd name="adj" fmla="val 25000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364000" y="2781360"/>
            <a:ext cx="719280" cy="718920"/>
          </a:xfrm>
          <a:prstGeom prst="cube">
            <a:avLst>
              <a:gd name="adj" fmla="val 25000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7524720" y="5229360"/>
            <a:ext cx="719280" cy="718920"/>
          </a:xfrm>
          <a:prstGeom prst="cube">
            <a:avLst>
              <a:gd name="adj" fmla="val 25000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524720" y="2781360"/>
            <a:ext cx="719280" cy="718920"/>
          </a:xfrm>
          <a:prstGeom prst="cube">
            <a:avLst>
              <a:gd name="adj" fmla="val 25000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1" name=""/>
          <p:cNvCxnSpPr>
            <a:stCxn id="278" idx="3"/>
            <a:endCxn id="277" idx="1"/>
          </p:cNvCxnSpPr>
          <p:nvPr/>
        </p:nvCxnSpPr>
        <p:spPr>
          <a:xfrm>
            <a:off x="5633640" y="3499920"/>
            <a:ext cx="1080" cy="190908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  <a:headEnd len="med" type="triangle" w="med"/>
            <a:tailEnd len="med" type="triangle" w="med"/>
          </a:ln>
        </p:spPr>
      </p:cxnSp>
      <p:cxnSp>
        <p:nvCxnSpPr>
          <p:cNvPr id="282" name=""/>
          <p:cNvCxnSpPr>
            <a:stCxn id="277" idx="4"/>
            <a:endCxn id="279" idx="2"/>
          </p:cNvCxnSpPr>
          <p:nvPr/>
        </p:nvCxnSpPr>
        <p:spPr>
          <a:xfrm>
            <a:off x="5904000" y="5678280"/>
            <a:ext cx="1621440" cy="108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  <a:headEnd len="med" type="triangle" w="med"/>
            <a:tailEnd len="med" type="triangle" w="med"/>
          </a:ln>
        </p:spPr>
      </p:cxnSp>
      <p:cxnSp>
        <p:nvCxnSpPr>
          <p:cNvPr id="283" name=""/>
          <p:cNvCxnSpPr>
            <a:stCxn id="279" idx="1"/>
            <a:endCxn id="280" idx="3"/>
          </p:cNvCxnSpPr>
          <p:nvPr/>
        </p:nvCxnSpPr>
        <p:spPr>
          <a:xfrm flipV="1">
            <a:off x="7794360" y="3499560"/>
            <a:ext cx="1080" cy="190908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  <a:headEnd len="med" type="triangle" w="med"/>
            <a:tailEnd len="med" type="triangle" w="med"/>
          </a:ln>
        </p:spPr>
      </p:cxnSp>
      <p:cxnSp>
        <p:nvCxnSpPr>
          <p:cNvPr id="284" name=""/>
          <p:cNvCxnSpPr>
            <a:stCxn id="278" idx="4"/>
            <a:endCxn id="280" idx="2"/>
          </p:cNvCxnSpPr>
          <p:nvPr/>
        </p:nvCxnSpPr>
        <p:spPr>
          <a:xfrm>
            <a:off x="5904000" y="3230280"/>
            <a:ext cx="1621440" cy="108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  <a:headEnd len="med" type="triangle" w="med"/>
            <a:tailEnd len="med" type="triangle" w="med"/>
          </a:ln>
        </p:spPr>
      </p:cxnSp>
      <p:cxnSp>
        <p:nvCxnSpPr>
          <p:cNvPr id="285" name=""/>
          <p:cNvCxnSpPr>
            <a:stCxn id="278" idx="4"/>
            <a:endCxn id="279" idx="1"/>
          </p:cNvCxnSpPr>
          <p:nvPr/>
        </p:nvCxnSpPr>
        <p:spPr>
          <a:xfrm>
            <a:off x="5904000" y="3230640"/>
            <a:ext cx="1891440" cy="217872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  <a:headEnd len="med" type="triangle" w="med"/>
            <a:tailEnd len="med" type="triangle" w="med"/>
          </a:ln>
        </p:spPr>
      </p:cxnSp>
      <p:cxnSp>
        <p:nvCxnSpPr>
          <p:cNvPr id="286" name=""/>
          <p:cNvCxnSpPr>
            <a:stCxn id="277" idx="1"/>
            <a:endCxn id="280" idx="2"/>
          </p:cNvCxnSpPr>
          <p:nvPr/>
        </p:nvCxnSpPr>
        <p:spPr>
          <a:xfrm flipV="1">
            <a:off x="5634000" y="3230280"/>
            <a:ext cx="1891440" cy="217872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Wireless Distribution System</a:t>
            </a:r>
            <a:br>
              <a:rPr sz="4000"/>
            </a:b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ipo dinámico o estático en el Route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1584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inám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1584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terface wireless&gt;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wds-mode=dynamic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wds-default-bridge=bridge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1584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stát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1584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terface wireless&gt;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wds-mode=static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terface wireless wds&gt;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wds-address=00:0B:6B:31:63:5D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aster-interface=wlan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Interfase inalámbrica RouterO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3645000"/>
            <a:ext cx="843588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P: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/interface wireless set wlan1 ssid=AP1 frequency=2442 band=2.4ghz-b/g mode=ap-bridge disabled=no</a:t>
            </a:r>
            <a:br>
              <a:rPr sz="2400"/>
            </a:b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TAC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/interface wireless set wlan1 ssid=AP1 band=2.4ghz-b/g mode=station disabled=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67280" y="1413000"/>
            <a:ext cx="718920" cy="718920"/>
          </a:xfrm>
          <a:prstGeom prst="cube">
            <a:avLst>
              <a:gd name="adj" fmla="val 25000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A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443640" y="2492280"/>
            <a:ext cx="792360" cy="792360"/>
          </a:xfrm>
          <a:prstGeom prst="ellipse">
            <a:avLst/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AC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547640" y="2492280"/>
            <a:ext cx="792360" cy="792360"/>
          </a:xfrm>
          <a:prstGeom prst="ellipse">
            <a:avLst/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AC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924360" y="2492280"/>
            <a:ext cx="792000" cy="792360"/>
          </a:xfrm>
          <a:prstGeom prst="ellipse">
            <a:avLst/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AC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9" name=""/>
          <p:cNvCxnSpPr>
            <a:stCxn id="217" idx="7"/>
            <a:endCxn id="215" idx="2"/>
          </p:cNvCxnSpPr>
          <p:nvPr/>
        </p:nvCxnSpPr>
        <p:spPr>
          <a:xfrm flipV="1">
            <a:off x="2224080" y="1861920"/>
            <a:ext cx="1843920" cy="74664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  <a:headEnd len="med" type="triangle" w="med"/>
            <a:tailEnd len="med" type="triangle" w="med"/>
          </a:ln>
        </p:spPr>
      </p:cxnSp>
      <p:cxnSp>
        <p:nvCxnSpPr>
          <p:cNvPr id="220" name=""/>
          <p:cNvCxnSpPr>
            <a:stCxn id="216" idx="1"/>
            <a:endCxn id="215" idx="4"/>
          </p:cNvCxnSpPr>
          <p:nvPr/>
        </p:nvCxnSpPr>
        <p:spPr>
          <a:xfrm flipH="1" flipV="1">
            <a:off x="4606920" y="1861920"/>
            <a:ext cx="1953000" cy="74664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  <a:headEnd len="med" type="triangle" w="med"/>
            <a:tailEnd len="med" type="triangle" w="med"/>
          </a:ln>
        </p:spPr>
      </p:cxnSp>
      <p:cxnSp>
        <p:nvCxnSpPr>
          <p:cNvPr id="221" name=""/>
          <p:cNvCxnSpPr>
            <a:stCxn id="218" idx="0"/>
            <a:endCxn id="215" idx="3"/>
          </p:cNvCxnSpPr>
          <p:nvPr/>
        </p:nvCxnSpPr>
        <p:spPr>
          <a:xfrm flipV="1">
            <a:off x="4321080" y="2131200"/>
            <a:ext cx="16560" cy="36108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  <a:headEnd len="med" type="triangle" w="med"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Wireless Distribution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43588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1584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ñada una interfase bridge en ambos AP’s: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/interface bridge add name=bridge1 disabled=n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584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nada la Ethernet local al bridge en ambos AP’s: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/interface bridge port set ether1 bridge=bridge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584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figure los 2 equipos como AP’s y habilite WDS: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/interface wireless set wlan1 mode=ap-bridge band=5ghz frequency=5300 wds-mode=dynamic wds-default-bridge=bridge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724360" y="1773360"/>
            <a:ext cx="719280" cy="718920"/>
          </a:xfrm>
          <a:prstGeom prst="cube">
            <a:avLst>
              <a:gd name="adj" fmla="val 25000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AP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987640" y="1773360"/>
            <a:ext cx="719280" cy="718920"/>
          </a:xfrm>
          <a:prstGeom prst="cube">
            <a:avLst>
              <a:gd name="adj" fmla="val 25000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A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11280" y="1844640"/>
            <a:ext cx="1152360" cy="720720"/>
          </a:xfrm>
          <a:prstGeom prst="ellipse">
            <a:avLst/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24720" y="1844640"/>
            <a:ext cx="1152720" cy="720720"/>
          </a:xfrm>
          <a:prstGeom prst="ellipse">
            <a:avLst/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5" name=""/>
          <p:cNvCxnSpPr>
            <a:stCxn id="292" idx="4"/>
            <a:endCxn id="291" idx="2"/>
          </p:cNvCxnSpPr>
          <p:nvPr/>
        </p:nvCxnSpPr>
        <p:spPr>
          <a:xfrm>
            <a:off x="3526920" y="2222280"/>
            <a:ext cx="2197800" cy="108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  <a:headEnd len="med" type="triangle" w="med"/>
            <a:tailEnd len="med" type="triangle" w="med"/>
          </a:ln>
        </p:spPr>
      </p:cxnSp>
      <p:cxnSp>
        <p:nvCxnSpPr>
          <p:cNvPr id="296" name=""/>
          <p:cNvCxnSpPr>
            <a:stCxn id="292" idx="2"/>
            <a:endCxn id="293" idx="6"/>
          </p:cNvCxnSpPr>
          <p:nvPr/>
        </p:nvCxnSpPr>
        <p:spPr>
          <a:xfrm flipH="1" flipV="1">
            <a:off x="1763280" y="2204280"/>
            <a:ext cx="1224720" cy="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97" name=""/>
          <p:cNvCxnSpPr>
            <a:stCxn id="291" idx="4"/>
            <a:endCxn id="294" idx="2"/>
          </p:cNvCxnSpPr>
          <p:nvPr/>
        </p:nvCxnSpPr>
        <p:spPr>
          <a:xfrm flipV="1">
            <a:off x="6264000" y="2204280"/>
            <a:ext cx="1261080" cy="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98" name=""/>
          <p:cNvSpPr/>
          <p:nvPr/>
        </p:nvSpPr>
        <p:spPr>
          <a:xfrm>
            <a:off x="3886200" y="18446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lace W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Wireless Distribution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ara hacer lo mismo pero usando el modo estático, hay que hacer los siguientes cambios en ambos ruteado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584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odifique la configuración de la interfase inalambrica: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/interface wireless set wlan1 wds-mode=static wds-default-bridge=n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584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dicione una interfase estática  WDS y especifique la direccion mac del radio remoto: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/interface wireless wds add name=wds master-interface=wlan1 wds-address=xx:xx:xx:xx:xx:xx disabled=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584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ñada la interfase WDS al bridge: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/interface bridge port set wds bridge=bridge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Interfase Inalámbrica RouterOS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p Virtu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1 name="wlan2" mtu=1500 mac-address=00:0B:6B:31:05:7C arp=enabled disable-running-check=no interface-type=virtual-AP master-interface=wlan1 ssid="MikroTik" max-station-count=2007 default-authentication=yes default-forwarding=yes hide-ssid=no 802.1x-mode=n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154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nfiguraciones principales:</a:t>
            </a:r>
            <a:br>
              <a:rPr sz="2800"/>
            </a:b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master-interface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– en cual interfase e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funcionando el AP virt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154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ssid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– Nombre de la red para el AP virt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Protocolo N-Stre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otocolo inalámbrico propietario de MikroTik (incompatible con otros fabricantes) creado para optimizar enlaces inalámbricos punto-punto y p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o-multipun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streme2 (Dual) trabaja con un par de tarjetas inalámbricas (tarjetas con chipset Atheros solamente) – una para transmitir y otra para recib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Protocolo N-Stre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Beneficios del protocol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1584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uy bajo “overhead” por frame, permitiendo super altas velocidades!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1584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o hay limite por distancia por protocol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1584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o hay degradación de velocidad debido a protocolo en enlaces larg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1584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juste dinámico del protocolo, dependiendo del tipo de trafico y el uso de los recurs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Protocolo N-Stre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ara habilitar N-streme debes tener un enlace inalámbrico activo y después habilitar N-Streme en ambos ruteadores en la configuración de la tarjeta inalámbric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/interface wireless nstreme set wlan1 enable-nstreme=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i tu quieres incrementar el rendimiento del enlace, necesitas especificar algún tipo de política de frames, por default ninguna esta habilitad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/interface wireless nstreme set wlan1 framer-policy=dynamic-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hora la tarjeta inalámbrica tratara de incrementar el rendimiento mandando frames mas grandes – construirá frames mas grandes añadiendo paquetes múltiples en cada fra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tocolo </a:t>
            </a: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N-Stre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95280" y="1413000"/>
            <a:ext cx="4537080" cy="49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st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atus: connected-to-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nd: 2.4ghz-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requency: 245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x-rate: 54Mb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x-rate: 54Mb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sid: MikroTi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ssid: 00:0B:6B:31:63:5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adio-name: 000B6B31635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ignal-strength: -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x-signal-strength: -5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x-ccq: 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9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x-ccq: 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9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urrent-ack-timeout: 5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urrent-distance: 5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ds-link: 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streme: 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y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raming-mode: 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exact-size</a:t>
            </a:r>
            <a:br>
              <a:rPr sz="1400"/>
            </a:b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framing-limit: 3200</a:t>
            </a:r>
            <a:br>
              <a:rPr sz="1400"/>
            </a:b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      framing-current-size: 25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outeros-version: 2.8.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  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ast-ip: 1.1.1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003640" y="1339920"/>
            <a:ext cx="3672000" cy="51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lv-LV" sz="3600" spc="-1" strike="noStrike">
                <a:solidFill>
                  <a:srgbClr val="000000"/>
                </a:solidFill>
                <a:latin typeface="Arial"/>
                <a:ea typeface="Arial"/>
              </a:rPr>
              <a:t>A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atus: running-a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nd: 2.4ghz-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requency: 245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verall-tx-ccq: 9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gistered-clients: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urrent-ack-timeout: 5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urrent-distance: 5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streme: 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y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polling: y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Protocolo N-Streme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250560" y="4005000"/>
            <a:ext cx="8893080" cy="21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nfiguración del radio en Full-duplex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bos ruteadores tienen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rjetas inalámbricas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P1: wlan1 – solo recibe; wlan2 – solo transm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P2: wlan1 – solo transmite; wlan2 – solo reci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692360" y="2127240"/>
            <a:ext cx="792000" cy="792000"/>
          </a:xfrm>
          <a:prstGeom prst="cube">
            <a:avLst>
              <a:gd name="adj" fmla="val 25000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A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661080" y="2127240"/>
            <a:ext cx="792360" cy="792000"/>
          </a:xfrm>
          <a:prstGeom prst="cube">
            <a:avLst>
              <a:gd name="adj" fmla="val 25000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AP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987640" y="1622520"/>
            <a:ext cx="287280" cy="649080"/>
          </a:xfrm>
          <a:custGeom>
            <a:avLst/>
            <a:gdLst>
              <a:gd name="textAreaLeft" fmla="*/ 183600 w 287280"/>
              <a:gd name="textAreaRight" fmla="*/ 287640 w 287280"/>
              <a:gd name="textAreaTop" fmla="*/ 16920 h 649080"/>
              <a:gd name="textAreaBottom" fmla="*/ 632160 h 649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987640" y="2990880"/>
            <a:ext cx="287280" cy="649080"/>
          </a:xfrm>
          <a:custGeom>
            <a:avLst/>
            <a:gdLst>
              <a:gd name="textAreaLeft" fmla="*/ 183600 w 287280"/>
              <a:gd name="textAreaRight" fmla="*/ 287640 w 287280"/>
              <a:gd name="textAreaTop" fmla="*/ 16920 h 649080"/>
              <a:gd name="textAreaBottom" fmla="*/ 632160 h 649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8" name=""/>
          <p:cNvCxnSpPr>
            <a:stCxn id="314" idx="0"/>
            <a:endCxn id="316" idx="1"/>
          </p:cNvCxnSpPr>
          <p:nvPr/>
        </p:nvCxnSpPr>
        <p:spPr>
          <a:xfrm flipH="1" flipV="1" rot="5400000">
            <a:off x="2497680" y="1637280"/>
            <a:ext cx="180000" cy="800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19" name=""/>
          <p:cNvSpPr/>
          <p:nvPr/>
        </p:nvSpPr>
        <p:spPr>
          <a:xfrm flipH="1">
            <a:off x="5653080" y="1622520"/>
            <a:ext cx="287280" cy="649080"/>
          </a:xfrm>
          <a:custGeom>
            <a:avLst/>
            <a:gdLst>
              <a:gd name="textAreaLeft" fmla="*/ 183960 w 287280"/>
              <a:gd name="textAreaRight" fmla="*/ 288000 w 287280"/>
              <a:gd name="textAreaTop" fmla="*/ 16920 h 649080"/>
              <a:gd name="textAreaBottom" fmla="*/ 632160 h 649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H="1">
            <a:off x="5653080" y="2990880"/>
            <a:ext cx="287280" cy="649080"/>
          </a:xfrm>
          <a:custGeom>
            <a:avLst/>
            <a:gdLst>
              <a:gd name="textAreaLeft" fmla="*/ 183960 w 287280"/>
              <a:gd name="textAreaRight" fmla="*/ 288000 w 287280"/>
              <a:gd name="textAreaTop" fmla="*/ 16920 h 649080"/>
              <a:gd name="textAreaBottom" fmla="*/ 632160 h 649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1" name=""/>
          <p:cNvCxnSpPr>
            <a:stCxn id="315" idx="1"/>
            <a:endCxn id="319" idx="1"/>
          </p:cNvCxnSpPr>
          <p:nvPr/>
        </p:nvCxnSpPr>
        <p:spPr>
          <a:xfrm flipV="1" rot="16200000">
            <a:off x="6260040" y="1627200"/>
            <a:ext cx="380160" cy="1016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22" name=""/>
          <p:cNvSpPr/>
          <p:nvPr/>
        </p:nvSpPr>
        <p:spPr>
          <a:xfrm flipH="1">
            <a:off x="3203640" y="1982880"/>
            <a:ext cx="2520720" cy="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203640" y="3351240"/>
            <a:ext cx="2520720" cy="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916360" y="35672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T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435640" y="13287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T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508720" y="35672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R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916360" y="13352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R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8" name=""/>
          <p:cNvCxnSpPr>
            <a:stCxn id="314" idx="3"/>
            <a:endCxn id="317" idx="1"/>
          </p:cNvCxnSpPr>
          <p:nvPr/>
        </p:nvCxnSpPr>
        <p:spPr>
          <a:xfrm flipH="1" rot="16200000">
            <a:off x="2289600" y="2618280"/>
            <a:ext cx="397800" cy="9990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9" name=""/>
          <p:cNvCxnSpPr>
            <a:stCxn id="315" idx="3"/>
            <a:endCxn id="320" idx="1"/>
          </p:cNvCxnSpPr>
          <p:nvPr/>
        </p:nvCxnSpPr>
        <p:spPr>
          <a:xfrm rot="5400000">
            <a:off x="6251760" y="2608920"/>
            <a:ext cx="396360" cy="1016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30" name=""/>
          <p:cNvSpPr/>
          <p:nvPr/>
        </p:nvSpPr>
        <p:spPr>
          <a:xfrm>
            <a:off x="1908000" y="162864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wlan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443640" y="162864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wlan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1835280" y="327816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wlan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372360" y="328464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wlan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Protocolo N-Streme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1584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pecifique en ambas tarjetas que use dual-nstreme: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/interface wireless set wlan1,wlan2 mode=nstreme-dual-sl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584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ñada una nueva interfase dual nstreme y configúrela: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/interface wireless nstreme-dual add rx-radio=wlan1 tx-radio=wlan2 rx-band=5ghz-turbo tx-band=5ghz-turbo rx-frequency=5760 tx-frequency=5210 framer-policy=exact-size disabled=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584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pecifique la dirección mac remota del otro radio que tiene el nstreme-dual: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/interface wireless nstreme-dual set n-streme1 remote-mac=xx:xx:xx:xx:xx: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Protocolo N-Streme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43588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1584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onit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x-quality: -7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x-quality: -6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x-rate: 48Mb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x-rate: 54Mb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nected: 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68360" y="4221000"/>
            <a:ext cx="8435880" cy="22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indent="1584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blemas?: Si no hay conexión verifique la calidad de la conexion ,seguramente es menos que –95d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584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ste seguro de que los valores de ‘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’  de un ruteador sean iguales que los de ‘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’  del otro(s) radio, si no es así es probable la desalineacion de ante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Interfase Inalámbrica Route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ame="wlan1" mtu=1500 mac-address=00:0B:6B:31:05:7C arp=enabled  disable-running-check=no interface-type=Atheros AR5212 radio-name="000B6B31057C" mode=station ssid="MikroTik" frequency=4920 band=5ghz scan-list=default-ism rate-set=default supported-rates-b=1Mbps,2Mbps,5.5Mbps,11Mbps supported-rates-a/g=6Mbps,9Mbps,12Mbps,18Mbps,24Mbps,36Mbps,48Mbps, 54Mbps basic-rates-b=1Mbps basic-rates-a/g=6Mbps max-station-count=2007 ack-timeout=dynamic tx-power=default noise-floor-threshold=default periodic-calibration=default burst-time=disabled fast-frames=no dfs-mode=none antenna-mode=ant-a wds-mode=disabled wds-default-bridge=none wds-ignore-ssid=no update-stats-interval=disabled default-authentication=yes default-forwarding=yes hide-ssid=no 802.1x-mode=n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Interfase Inalámbrica Route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849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odos de configuracion:</a:t>
            </a:r>
            <a:br>
              <a:rPr sz="2400"/>
            </a:b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station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– tarjeta trabaja como cliente </a:t>
            </a:r>
            <a:br>
              <a:rPr sz="2400"/>
            </a:b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station-wd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– cliente que sera “bridgeado”*</a:t>
            </a:r>
            <a:br>
              <a:rPr sz="2400"/>
            </a:b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ap-bridge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– Modo Punto de Acce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bridge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– Modo punto de acceso con soporte de un cliente</a:t>
            </a:r>
            <a:br>
              <a:rPr sz="2400"/>
            </a:b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alignment-only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– modo para posicionar ante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nstreme-dual-slave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– tarjeta usada para tipo nstreme en modo dual</a:t>
            </a:r>
            <a:br>
              <a:rPr sz="2400"/>
            </a:b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wds-slave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– trrabaja Punto de acceso , pero se adapta a la frecuencia de su “par” de W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* AP debe soportar W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Interfase Inalámbrica RouterO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82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nfiguracion de  banda:</a:t>
            </a:r>
            <a:br>
              <a:rPr sz="3200"/>
            </a:b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5ghz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– 802.11a 54Mbps</a:t>
            </a:r>
            <a:br>
              <a:rPr sz="3200"/>
            </a:b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5ghz-turbo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– 802.11a 108Mbps</a:t>
            </a:r>
            <a:br>
              <a:rPr sz="3200"/>
            </a:b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2.4ghz-b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– 802.11b 11Mbps </a:t>
            </a:r>
            <a:br>
              <a:rPr sz="3200"/>
            </a:b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2.4ghz-b/g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– 802.11b 11Mbps, 802.11g 54Mbps</a:t>
            </a:r>
            <a:br>
              <a:rPr sz="3200"/>
            </a:b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2.4ghz-only-g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– 802.11g 54Mbps</a:t>
            </a:r>
            <a:br>
              <a:rPr sz="3200"/>
            </a:b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2.4ghz-g-turbo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– 802.11g 108Mb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Interfase Inalámbrica Route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frequency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– frecuencia en la cual el punto de acceso trabaja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ssid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– Nombre de la red inalámbric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hide-ssid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– el AP no propagara el nombre de la red al espac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tx-power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– potencia d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ansmisión en decibeles , la cual puede ser modificad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Interfase Inalámbrica Route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Velocidades:</a:t>
            </a:r>
            <a:br>
              <a:rPr sz="2800"/>
            </a:b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supported-rates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– velocidades en las cuales la tarjeta inalámbrica puede trabajar</a:t>
            </a:r>
            <a:br>
              <a:rPr sz="2800"/>
            </a:b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basic-rates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– todos los nodos de la red inalámbrica deben soportar esta veloc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ate-set:</a:t>
            </a:r>
            <a:br>
              <a:rPr sz="2800"/>
            </a:b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default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– default y velocidades básicas serán usadas</a:t>
            </a:r>
            <a:br>
              <a:rPr sz="2800"/>
            </a:b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configured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– usara velocidades soportadas y básicas que estén especificadas en la configur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Interfase Inalámbrica Route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default-forwarding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– propiedad para habilitar o deshabilitar la comunicación a nivel de red entre los clientes del 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default-authentication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– propiedad para permitir la conexión solo a aquellos clientes que estén en las listas de acceso, este parámetro solo es aplicable al modo 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Interfase Inalámbrica Route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scan-list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– cliente busca por un AP solo en las frecuencias incluidas, el valor por default “defaulr-ism” incluy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2.4ghz – 2412, 2417, 2422, 2427, 2432, 2437, 2442, 2447, 2452, 2457, 2462, 2467, 247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5ghz – 5180, 5200, 5220, 5240, 5260, 5280, 5300, 5320, 5745, 5765, 5785, 580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5ghz-turbo – 5210, 5250, 5290, 5760, 580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recuencias adicionales pueden ser anadidas, ejemp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can-list=default-ism,5400-5500,56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8T07:45:57Z</dcterms:created>
  <dc:creator> Uldis</dc:creator>
  <dc:description/>
  <dc:language>en-US</dc:language>
  <cp:lastModifiedBy>Alfonso Urbina Araux</cp:lastModifiedBy>
  <dcterms:modified xsi:type="dcterms:W3CDTF">2006-02-24T15:34:14Z</dcterms:modified>
  <cp:revision>82</cp:revision>
  <dc:subject/>
  <dc:title>RouterOS Wireless Interface</dc:title>
</cp:coreProperties>
</file>